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12F-3B0B-402C-AD49-4362233E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2B0-0EBD-4572-B49A-3E87BFA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2F4-6A1E-40B4-BB32-8ADC30D7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905-B81B-4A3E-B501-D3C880E9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B62-2A5B-4738-B77F-54D4820F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B0F-66B2-474B-9989-6161087F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49F0-FE17-412B-8EF5-C51D4103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3B97-D1B4-4CAB-AE87-66580A9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920-0E39-41AA-82C7-EAF20BFD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6CD-5FBB-4080-BCAC-30C8D85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053-C234-41D1-B18F-36E4F2BA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BFE0-EDC4-4DAF-BBC3-D85E596E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85E-0AB5-4538-8311-15E316C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BA0C-1934-4F9D-A188-6D26573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1BC-E830-4400-B578-52B677D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8487-1425-401D-99EA-D931A72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94F-52AF-4293-967C-CDD4187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380D-1A67-4E9B-B107-A113F67D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F297-F334-4ED0-97B5-FE3DF5EC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0D97-3809-4F9F-8728-83096772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25A-0030-4F3F-BCD2-E96AE09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6C6D-B8A9-40B2-B848-FA7B977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26E7-EA1F-4B28-BED3-EE6211E6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E4DD-9309-4E13-9162-6208788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210E-C539-47C2-8B4C-D155DD3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6E8C-133C-4A2C-BB80-62B2EBE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5575-8ED2-48AA-BBA5-202C26C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CC88-EC86-4978-9DCF-D17403C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15EC-8F03-4144-AFC1-21483EF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42DB-2B31-4CD8-B5FF-C4ED801F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69CC-65A2-4AD5-8EC3-F937EB2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42A-73E3-41BC-BB52-225706C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93B4-3E79-4057-8CF7-D2DC9E2C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B74B-AF80-4DDE-9084-8C98AD42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FE56-BE8B-4102-9770-2EE2E9A8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2117-6D4A-49E5-90A7-B21DDA7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CE0B-015B-495D-9136-FF95591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6EE8-842A-463A-B439-666D5B0A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87FA-1E9B-47BE-A249-E68294D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F837-3E35-45E2-B23F-DEE6AC0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35F6-7DC4-4C8C-A896-344C889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B67A-BA86-468C-9ECE-5256243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BD5-EE5B-45A4-9F3D-EED7052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62AA-3DFC-4B69-99B8-D6C86AA3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3AEF-61FD-4AE6-85FB-6E39FD3A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62D7-A94B-464D-8E3C-034382B9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559-3A60-4EF5-AA9D-9EA0796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F04-EF5C-4E77-AFBE-CF7D89C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86A7C5B-F02A-4598-8945-5D39C56A268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7C3D0B0-8F5D-4DF2-8653-0516CB3F424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0CCA102-FF32-4CD9-998C-3292FD1CF9A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8B99E62-1028-47AB-BBBC-9F1A5C3B31B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najważniejsze elementy pierwszej pomocy w przypadku ataku epileptycz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mortyzowanie upadku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chrona głowy poszkodowanego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pewnienie komfortu termicznego i psychicznego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4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